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7FB5-03C5-4B49-84BA-993FD593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A60F-D573-48CE-8856-28B11D6EB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E4F2-4FC9-4A58-A0CF-2BBE1E032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F8E3-ECD1-4F3B-8048-7A780C5CF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B455-DE53-4FC2-94AF-0719E58B0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EA79-B191-4C48-A6FE-1B67F028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9CDA-DA18-413D-BEDF-BFB651ABD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DACD-D32E-4B27-B7DC-518D9A52E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EC9D-F319-4888-A983-11A8B3E3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5589-064A-414B-9BCF-376A3110C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1F45-FA03-4DD4-B69F-00E20DD6B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71D3-CD2A-4958-BE10-03954982C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B45898-E909-4077-AA10-423D5C1F16D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TIPOS DE SISTEMAS NERVIOS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754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Tipos de sistemas nervios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21 Grupo"/>
          <p:cNvGrpSpPr/>
          <p:nvPr/>
        </p:nvGrpSpPr>
        <p:grpSpPr>
          <a:xfrm>
            <a:off x="1979640" y="2781360"/>
            <a:ext cx="5257800" cy="793800"/>
            <a:chOff x="1979640" y="2781360"/>
            <a:chExt cx="5257800" cy="793800"/>
          </a:xfrm>
        </p:grpSpPr>
        <p:sp>
          <p:nvSpPr>
            <p:cNvPr id="55" name="Freeform 10"/>
            <p:cNvSpPr/>
            <p:nvPr/>
          </p:nvSpPr>
          <p:spPr>
            <a:xfrm>
              <a:off x="1979640" y="328464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1979640" y="3283200"/>
              <a:ext cx="1440" cy="29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" h="813">
                  <a:moveTo>
                    <a:pt x="0" y="812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7236000" y="3283200"/>
              <a:ext cx="1440" cy="29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" h="813">
                  <a:moveTo>
                    <a:pt x="0" y="812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4643640" y="278136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20 Grupo"/>
          <p:cNvGrpSpPr/>
          <p:nvPr/>
        </p:nvGrpSpPr>
        <p:grpSpPr>
          <a:xfrm>
            <a:off x="3564000" y="1701720"/>
            <a:ext cx="2087640" cy="1081080"/>
            <a:chOff x="3564000" y="1701720"/>
            <a:chExt cx="2087640" cy="1081080"/>
          </a:xfrm>
        </p:grpSpPr>
        <p:sp>
          <p:nvSpPr>
            <p:cNvPr id="60" name="AutoShape 7"/>
            <p:cNvSpPr/>
            <p:nvPr/>
          </p:nvSpPr>
          <p:spPr>
            <a:xfrm>
              <a:off x="3564000" y="1701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635280" y="1915920"/>
              <a:ext cx="19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ISTEMAS NERVIO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22 Grupo"/>
          <p:cNvGrpSpPr/>
          <p:nvPr/>
        </p:nvGrpSpPr>
        <p:grpSpPr>
          <a:xfrm>
            <a:off x="826920" y="3571920"/>
            <a:ext cx="2303640" cy="1079280"/>
            <a:chOff x="826920" y="3571920"/>
            <a:chExt cx="2303640" cy="1079280"/>
          </a:xfrm>
        </p:grpSpPr>
        <p:sp>
          <p:nvSpPr>
            <p:cNvPr id="63" name="AutoShape 9"/>
            <p:cNvSpPr/>
            <p:nvPr/>
          </p:nvSpPr>
          <p:spPr>
            <a:xfrm>
              <a:off x="899280" y="3571920"/>
              <a:ext cx="208800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826920" y="3789000"/>
              <a:ext cx="230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E NEURON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23 Grupo"/>
          <p:cNvGrpSpPr/>
          <p:nvPr/>
        </p:nvGrpSpPr>
        <p:grpSpPr>
          <a:xfrm>
            <a:off x="5867280" y="3573360"/>
            <a:ext cx="2737080" cy="1077840"/>
            <a:chOff x="5867280" y="3573360"/>
            <a:chExt cx="2737080" cy="1077840"/>
          </a:xfrm>
        </p:grpSpPr>
        <p:sp>
          <p:nvSpPr>
            <p:cNvPr id="66" name="AutoShape 8"/>
            <p:cNvSpPr/>
            <p:nvPr/>
          </p:nvSpPr>
          <p:spPr>
            <a:xfrm>
              <a:off x="6083280" y="3573360"/>
              <a:ext cx="2305080" cy="1077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867280" y="3842640"/>
              <a:ext cx="273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SISTEMA NERVIOSO CENTRALIZ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19"/>
          <p:cNvSpPr/>
          <p:nvPr/>
        </p:nvSpPr>
        <p:spPr>
          <a:xfrm>
            <a:off x="395280" y="5300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444760" cy="38912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1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 Box 7"/>
          <p:cNvSpPr/>
          <p:nvPr/>
        </p:nvSpPr>
        <p:spPr>
          <a:xfrm>
            <a:off x="971640" y="1419120"/>
            <a:ext cx="727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los cnidarios (pólipos y medus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ecen de un sistema nervioso central. Solo tienen una red de neuronas interconectadas que recorre su pared corpor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d de neur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364000" y="2916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 de neuro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443640" y="511812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d de neuronas en un pól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984240" y="90360"/>
            <a:ext cx="75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pos de sistemas nervi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H="1">
            <a:off x="4824000" y="3429000"/>
            <a:ext cx="111780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4255920" y="3429000"/>
            <a:ext cx="1686240" cy="217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984240" y="90360"/>
            <a:ext cx="75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pos de sistemas nervi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4572000" y="3718080"/>
            <a:ext cx="2739960" cy="281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84360" y="1197000"/>
            <a:ext cx="72723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la mayor parte de los anim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él, las neuronas se agrupan y forma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Centros nerviosos, que tienden a agruparse en la cabeza y procesan la inform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Gangli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en moluscos y artrópo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Encéfa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y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médul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en verteb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ervios que conectan los órganos sensoriales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los centros nerviosos, y éstos, con los efect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Sistema nervio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3081600" cy="2024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2484360" y="4078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ngl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7667640" y="4292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céfa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948360" y="3933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635280" y="549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erv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236000" y="472608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s nerviosos de un molus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y un mamíf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1316160" y="4319640"/>
            <a:ext cx="157320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2230560" y="4319640"/>
            <a:ext cx="658800" cy="14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2881440" y="4319640"/>
            <a:ext cx="603000" cy="11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2962440" y="5805360"/>
            <a:ext cx="1465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2"/>
          <p:cNvSpPr/>
          <p:nvPr/>
        </p:nvSpPr>
        <p:spPr>
          <a:xfrm flipV="1">
            <a:off x="4427640" y="4809600"/>
            <a:ext cx="123336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 flipH="1">
            <a:off x="6172200" y="4076640"/>
            <a:ext cx="77616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H="1" flipV="1">
            <a:off x="6587640" y="4403880"/>
            <a:ext cx="1008360" cy="3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8:11Z</dcterms:modified>
  <cp:revision>10</cp:revision>
  <dc:subject/>
  <dc:title>Presentación de PowerPoint</dc:title>
</cp:coreProperties>
</file>